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15.png" ContentType="image/png"/>
  <Override PartName="/ppt/media/image31.wmf" ContentType="image/x-wmf"/>
  <Override PartName="/ppt/media/image11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8.wmf" ContentType="image/x-wmf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5CB6-3DF8-42D7-A0B9-B55B3BBD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850-CEEB-4D46-9F0E-FC1CA59E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CF2-AC82-421A-9DF6-AEDF2515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427-F6CD-4BC4-89B5-B42E53BD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764D-2A32-4DCF-AB10-E6D2A029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2DD7-C4D7-43F8-8B05-E9B544C2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76FE-28F4-44A7-ACB6-AA3937A8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A92F-FF4A-4E3C-92CB-BD199914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6499-7D8F-49CD-B3E7-0751C85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0FB5-63E0-435E-8683-53B688B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926D-DA6F-4597-99FB-9CBFE6FF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64A-661E-4749-8771-544CA776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1A9-10CB-4F8A-A637-7A7C544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87F-E70F-47E3-B12F-B417588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136E-8552-496C-B5D3-151C5CBA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6B93-8C06-4B2B-96D5-1BAD211D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5F81-C17C-4DA7-9858-6CB98BB8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A78-27E5-4DD7-80F8-1AFF1734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A52E-93CC-459B-A6CB-2DA2001D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E5D-012A-4EF5-A0EE-D5EED40F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B76A-2A59-4EA5-9261-74C4F174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C26-DEFE-4208-9FF7-2716899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6E5-AD2D-4E84-AAA1-1B53A95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C6E-254E-4965-82A2-0A4A5FC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989B-85D1-430E-BAAF-04EDD3B2D507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logo" descr=""/>
          <p:cNvPicPr/>
          <p:nvPr/>
        </p:nvPicPr>
        <p:blipFill>
          <a:blip r:embed="rId3"/>
          <a:stretch/>
        </p:blipFill>
        <p:spPr>
          <a:xfrm>
            <a:off x="7201080" y="0"/>
            <a:ext cx="194292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62A0-65BD-4762-8A59-7C36EB430086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Web/Inter-HR/Inter-biz/domek/index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00"/>
                </a:solidFill>
                <a:latin typeface="Arial Black"/>
              </a:rPr>
              <a:t>Sustav evidencije korisnik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2952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Narrow"/>
              </a:rPr>
              <a:t>za domove za stare i nemoćne os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3860640"/>
            <a:ext cx="2916360" cy="890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00360" y="6553080"/>
            <a:ext cx="64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 Narrow"/>
              </a:rPr>
              <a:t>lipanj/srpanj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-88920"/>
            <a:ext cx="2843280" cy="85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videncija korisni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idejno rješ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primanje zaht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rada zahtjeva/odluka o smješt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utomatski unos korisnika u eviden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đenje evidencije (matična knjiga, osobni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promjena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napomene i zapaž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evidencija odsut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evidencija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evidencija dokum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statistička o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automatska izrada raznih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hr-HR" sz="2000" spc="-1" strike="noStrike">
                <a:solidFill>
                  <a:srgbClr val="006600"/>
                </a:solidFill>
                <a:latin typeface="Arial"/>
              </a:rPr>
              <a:t>razne pomoćne funkcije (rođendani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411280" y="4437000"/>
            <a:ext cx="633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novni poda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os podataka o korisniku (jednokratno! – automatizirana eviden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luka o smještaju – odmah ili naknadno nakon održane sjedni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23080" y="623736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Unos novih zahtjeva za smješt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4032360" cy="3900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716360" y="1916280"/>
            <a:ext cx="1943280" cy="1800000"/>
          </a:xfrm>
          <a:prstGeom prst="rect">
            <a:avLst/>
          </a:prstGeom>
          <a:solidFill>
            <a:srgbClr val="00ff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59640" y="220500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191628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dluka o smješt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-79200"/>
            <a:ext cx="15843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Zaprimanje zaht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6372360" cy="3619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62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etaljan preg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ni kriteriji (svi zahtjevi, samo obrađeni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raživanje, ograničavanje prikaza (godina podnošenja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5760" y="623736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Pregled i evidencija zaht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5418000"/>
            <a:ext cx="66247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t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pis na pis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2897280" cy="2352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brada i 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pregled zaht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6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i zakonski zahtijevani pod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5760" y="62373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Unos korisnika u eviden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5229360"/>
            <a:ext cx="66247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uzetno detalj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obvezan unos, mogućnost promjene i naknadnog unosa u svakom trenutk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Unos podat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 koris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488040" cy="232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892" t="18602" r="2841" b="9984"/>
          <a:stretch/>
        </p:blipFill>
        <p:spPr>
          <a:xfrm>
            <a:off x="5327640" y="1420920"/>
            <a:ext cx="3044880" cy="15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1023" t="19541" r="796" b="10581"/>
          <a:stretch/>
        </p:blipFill>
        <p:spPr>
          <a:xfrm>
            <a:off x="5896080" y="2641680"/>
            <a:ext cx="3105000" cy="14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rcRect l="1023" t="18602" r="1818" b="9984"/>
          <a:stretch/>
        </p:blipFill>
        <p:spPr>
          <a:xfrm>
            <a:off x="5783400" y="3941640"/>
            <a:ext cx="3073320" cy="15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5"/>
          <a:srcRect l="1023" t="18005" r="1818" b="10581"/>
          <a:stretch/>
        </p:blipFill>
        <p:spPr>
          <a:xfrm>
            <a:off x="1692360" y="2637000"/>
            <a:ext cx="3073320" cy="15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6"/>
          <a:srcRect l="1154" t="18739" r="1102" b="11289"/>
          <a:stretch/>
        </p:blipFill>
        <p:spPr>
          <a:xfrm>
            <a:off x="2844720" y="3681360"/>
            <a:ext cx="309564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5270400" cy="3165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6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gled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ni kriteriji prikaza, filtr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raživanje, ispis na pis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6120" y="623736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Vođenje evidencije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03640" y="4797360"/>
            <a:ext cx="6624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mjena poda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os napomena i zapaž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stanak smješt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Vođe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96000" y="3835440"/>
            <a:ext cx="3132000" cy="2330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730920" y="2565360"/>
            <a:ext cx="230508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6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gled prema matičnoj knj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gled osobnog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svakom trenutku dostupni svi podaci o koris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02280" y="623736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Podaci o koris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a –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 koris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68720" y="1595520"/>
            <a:ext cx="4932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68360" y="439560"/>
            <a:ext cx="66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tična 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moćna matična 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gled, ograničavanje prik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spis na pisač (standardizirani obraza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02280" y="623736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atična knj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a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matična knj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5156280"/>
            <a:ext cx="66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svakom trenutku moguće je pregledati sve podatke o određenom koris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98920" y="1628640"/>
            <a:ext cx="5976720" cy="33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Obrada podata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im evidencije korisn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idencija odsu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idencija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tistička o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nevnik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rada i ispis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pis zahtjeva, matična knjiga, pomoćna matična knjiga, mjesečno izvješće socijalne službe, izvještaj o smještajnim kapacitetima, mjesečna odsutnost korisnika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pis obrazaca za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obni list, obrazac za zdravstvenu zaštitu, izvješće o odsutnosti i aktivnostima, rješenje o odluci za smještaj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659640" y="1125360"/>
            <a:ext cx="234000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ednosta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laz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vra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vid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g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vj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isut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dsut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seljeni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2040" y="623736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dsutnost korisnika -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Odsu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Vođenje 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5192640"/>
            <a:ext cx="66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rzo i jednostavno bilježenje odsutnosti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guće definiranje povratka unaprijed (npr. predviđeni boravak u bolnici, odlazak u goste obitelji ili slič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1007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35280" y="623736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jesečna odsutnost - an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Odsu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Mjese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4473720"/>
            <a:ext cx="662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a analiza odsutnosti prema mjese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zultat je popis korisnika i njihovih odsut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pis na pis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29080" y="765000"/>
            <a:ext cx="590364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Dom za stare i nemoćn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novna djelatnost = smještaj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htjevi za smješt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ještajni kapacit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seljenje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videncija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eljenje korisnik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đenje 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htjevi, matična knjiga, osobni listov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nevnik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pirologi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lakšati posao socijanim radnici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utomatizacija postupka eviden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formatizacija =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ustav evidencije </a:t>
            </a: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dern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91280" y="623736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dsutnost korisnika - pre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280"/>
            <a:ext cx="2124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Odsu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Podaci o odsutnosti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5514840"/>
            <a:ext cx="662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etaljan pregled svake odsu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upni pregled – mjesečni i godiš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588024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627280" y="5229360"/>
            <a:ext cx="6337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os podataka o aktivnostima prije i nakon useljenja, zapaž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etaljni unos aktivnosti – datum, vrijeme, opi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22400" y="623736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Aktivnosti korisnika -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Vođenje 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629280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659640" y="1701720"/>
            <a:ext cx="23400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utomatska izrada izvješć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za određeni mjesec u god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opis i brojčani pod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seljeni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seljen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dsutn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mrl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spis na pisa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odesiv kriterij odsutnosti (broj dana u mjesec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24360" y="623736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jesečno izvješće socijalne služ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Mjesečno izvješ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Socijalna služ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0496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55640" y="5013360"/>
            <a:ext cx="6443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ma obrascu propisanom pravilni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utomatski proračun i prebroja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gućnost ispisa u obliku formulara (propisano pravilnik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52520" y="6237360"/>
            <a:ext cx="48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Godišnji statistički list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Statist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(godišn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886" t="3281" r="11385" b="19379"/>
          <a:stretch/>
        </p:blipFill>
        <p:spPr>
          <a:xfrm>
            <a:off x="2448000" y="728640"/>
            <a:ext cx="6191280" cy="40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55640" y="5263920"/>
            <a:ext cx="644364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novna statistika o starosti i useljenju u ustano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sjek starosti, najmlađi i najstariji korisnic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sječno trajanje smještaja, najkraći i najdulji boravak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1320" y="623736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Automatska statistika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15920"/>
            <a:ext cx="21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Stat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koris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627280" y="730080"/>
            <a:ext cx="5040360" cy="43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zvještaj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utomatska izrada i ispis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ndardizirani obras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tična 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moćna matična 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obni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tistički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jesečno izvješće socijalne služ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brazac za zdravstvenu zašt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ješenje o odluci za smješt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jesečno izvješće o odsutnostima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ješće o odsutnosti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ješće o smještajnim kapacitetima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nastavku su prikazani neki od primjera ispisa obrazaca i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90320" y="623736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Izvještaj o podnesenim zahtje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Podneseni zahtj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3043" t="12076" r="3436" b="3916"/>
          <a:stretch/>
        </p:blipFill>
        <p:spPr>
          <a:xfrm>
            <a:off x="2303640" y="944640"/>
            <a:ext cx="6661080" cy="45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07640" y="623736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dluka o rješenju podnesenog zaht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dluka o zahtje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2319" t="11749" r="3768" b="6005"/>
          <a:stretch/>
        </p:blipFill>
        <p:spPr>
          <a:xfrm>
            <a:off x="2627280" y="944640"/>
            <a:ext cx="6192720" cy="481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773600" y="623736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atična knj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Matična knj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84360" y="85392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493440" y="623736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jesečna odsutnost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Mjesečna odsut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64000" y="944640"/>
            <a:ext cx="6008400" cy="45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nformatizacija ustanov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rnet stra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-m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da teksta (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njigovodstv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800" spc="-1" strike="noStrike">
                <a:solidFill>
                  <a:srgbClr val="0000ff"/>
                </a:solidFill>
                <a:latin typeface="Arial"/>
              </a:rPr>
              <a:t>U pravilu već prisutno u većini ustanova, povoljno i dostupno od strane raznih ponuđ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stav evidencija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njak ponude na trži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soka cijena dostupnih s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ff"/>
                </a:solidFill>
                <a:latin typeface="Arial"/>
              </a:rPr>
              <a:t>DO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-7776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probano u praksi (Odra, Osijek, Sisak, Pore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-7776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voj na zahtjev, aktualnosti, nadograd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138920" y="623736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sobni list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sobni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479736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49440" y="6237360"/>
            <a:ext cx="47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brazac za zdravstvenu zašt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brazac za zdravstvenu zašt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9117" t="7874" r="7493" b="3002"/>
          <a:stretch/>
        </p:blipFill>
        <p:spPr>
          <a:xfrm>
            <a:off x="2735280" y="963720"/>
            <a:ext cx="5904000" cy="47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Smještajni kapacit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3248" t="7613" r="2395" b="5644"/>
          <a:stretch/>
        </p:blipFill>
        <p:spPr>
          <a:xfrm>
            <a:off x="2519280" y="295200"/>
            <a:ext cx="417672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4069" t="8094" r="2592" b="2100"/>
          <a:stretch/>
        </p:blipFill>
        <p:spPr>
          <a:xfrm>
            <a:off x="5111640" y="1449360"/>
            <a:ext cx="388944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rcRect l="1673" t="6781" r="3413" b="569"/>
          <a:stretch/>
        </p:blipFill>
        <p:spPr>
          <a:xfrm>
            <a:off x="2374920" y="3762360"/>
            <a:ext cx="3673440" cy="26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6191280" y="4761000"/>
            <a:ext cx="27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pis različitih izvješt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risnici prema sob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punjenost 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pis sob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odul</a:t>
            </a: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 DOMEKMedicin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idencije za medicinski odj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hvat osnovnih podataka o korisnicima ustan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dicinske evidencije o korisni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videncija djelatnika medicinskog odj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3068640"/>
            <a:ext cx="324000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dicinske eviden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namn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evij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ospitalizac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tpust iz bol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omjena kate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up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l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dijabetič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erap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pecijalistički pregle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ehr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ostelj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3068640"/>
            <a:ext cx="32403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oblje odj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godišnji odm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radni s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imopred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zaduže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157720"/>
            <a:ext cx="3384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igitalna evidenc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+ ispis standardnih obrazac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411280" y="623736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Pretraga korisnika, unos i pregled evid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5920"/>
            <a:ext cx="212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Medicinska evid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Koris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84360" y="5157720"/>
            <a:ext cx="61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hvat osnovnih podataka o korisni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656136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411280" y="623736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Evidencija previjanja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15920"/>
            <a:ext cx="212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Medicinska evid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Primjer - previ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53654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DOMEKMedicin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taljne evide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gućnost ispisa – “prijelazno” razdoblje – digitalna arhiva + papirnata arh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rzi dohvat i pretraga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Budućnos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je provjeren u velikim dom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je potpuno otv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gućnost nadog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prestano unaprijeđivanje i dodavanje novih funkcija prema zahtjevima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luka djelatnika d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vjereno rješenje ili razvoj novo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oškovi, pr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ff"/>
                </a:solidFill>
                <a:latin typeface="Arial"/>
              </a:rPr>
              <a:t>nedostaci –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aka primjedba se razmatra i po potrebi obavljaju modifikacije sustav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Troškov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iksni troškovi bez skrivenih trajn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jesečna naknada za profesionalnu uslugu održ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tis nadogradnje u sklopu održ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predlažemo prema potrebama i zahtjevima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oj radnih mjesta, instalirani modul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cenciranje po broju radnih mj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Korisnic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uća sv. Franje, Odra – Novi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 za starije i nemoćne Osij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 za starije i nemoćne Sis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 za starije i nemoćne Pore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PRIDRUŽITE 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DOMEK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ska Evidencija Korisnika = </a:t>
            </a: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DO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vost na trži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vjereno u pra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noštvo fu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gućnost nadogradnje na zaht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ednostavnost korište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za djelatnike koji nemaju iskustvo rada na računal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kumentaci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upute za korišt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drš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telefonska, izlazak na lokaciju na zaht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Za koga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arno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ocijalna služ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đenje kompletne evidencije o svakom korisniku, od useljenja, preko aktivnosti i odsutnosti do iselj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đenje evidencije o smještajnim kapacite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Socij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tale služ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stupnost osnovnih podataka iz evidencije socijalne služ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eativna radionica – </a:t>
            </a: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Radion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evidencija aktivnosti korisnik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edinica za pojačanu njegu – </a:t>
            </a: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Medici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vođenje specifičnih evid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L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formatizacija, manje papir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brzanje poslovanja, ostale prednosti raču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raživanje i arhiviranje poda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Idejno rješenje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422064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rištenje u raznim službama ustanove – konfiguracija ovisno o organizaciji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DOMEKSocija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Windows aplikacija za vođenje evidencije – inicijalno za socijalnu službul, središnji dio s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59280" y="1685880"/>
            <a:ext cx="539892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odul</a:t>
            </a: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 DOMEKSocijal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mijenjeno socijalnoj služ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guće korištenje na više računala (npr. veći domovi sa više socijalnih radn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datno – socijalni radnici zaduženi za kreativne aktivnosti koriste modul </a:t>
            </a: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Radi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htj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ještajnih kapaci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tična knjiga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sutnost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tivnost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raživanje, pregled, ispis 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utomatska izrada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tistički li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58920" y="4437000"/>
            <a:ext cx="403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nostavno suče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lagodljivost koris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forma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5640" y="6211800"/>
            <a:ext cx="56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snovni prozor aplikacije DOMEKS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583236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659280" y="3644640"/>
            <a:ext cx="2305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rste smješta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nos podataka o so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gled soba i korisnika po so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720" y="58770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Smještajni kapac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189000"/>
            <a:ext cx="3116160" cy="33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816360" cy="3476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0" t="0" r="30528" b="0"/>
          <a:stretch/>
        </p:blipFill>
        <p:spPr>
          <a:xfrm>
            <a:off x="250920" y="189000"/>
            <a:ext cx="2795400" cy="3504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3419280" cy="270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26920" y="2492280"/>
            <a:ext cx="29815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5:47:09Z</dcterms:created>
  <dc:creator>Matija Mikac</dc:creator>
  <dc:description/>
  <dc:language>en-US</dc:language>
  <cp:lastModifiedBy>Matija</cp:lastModifiedBy>
  <dcterms:modified xsi:type="dcterms:W3CDTF">2008-06-26T12:37:16Z</dcterms:modified>
  <cp:revision>27</cp:revision>
  <dc:subject/>
  <dc:title>Slide 1</dc:title>
</cp:coreProperties>
</file>